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29.jpeg" ContentType="image/jpeg"/>
  <Override PartName="/ppt/media/image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946240" y="6504120"/>
            <a:ext cx="4418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NuFact 05 J.E Campagne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2E18-DB66-43F7-A7F0-CC1F2CC8A99A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nf.infn.it/conference/2005/nufact05/NUFACT05_poster_big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9120"/>
            <a:ext cx="9144000" cy="5594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63880" y="2160360"/>
            <a:ext cx="3262320" cy="89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Comic Sans MS"/>
              </a:rPr>
              <a:t>SPL</a:t>
            </a: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4000" spc="-1" strike="noStrike">
                <a:solidFill>
                  <a:srgbClr val="003399"/>
                </a:solidFill>
                <a:latin typeface="Comic Sans MS"/>
              </a:rPr>
              <a:t>Fréjus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6280" y="3368520"/>
            <a:ext cx="7696080" cy="18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Monotype Corsiva"/>
              </a:rPr>
              <a:t>J-E Campag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Linear Accelerator Laboratory – Orsay – Franc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Thanks: A. Cazes, M. Mezzetto, Th. Schwetz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              </a:t>
            </a: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and the GLoBES team 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              </a:t>
            </a: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and AM Lombardi, R. Garoby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57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ecay Tunnel Parameter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3960" y="1143000"/>
            <a:ext cx="423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odify purit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L=10m, 20m, 40m and 60m have been tested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m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0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 50% to 7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50% to 10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0m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60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5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2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0m seems bette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84600" y="1155600"/>
            <a:ext cx="434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adiu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odify accept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=1m, 1.5m and 2m have been Tested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m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m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L=40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5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50% to 7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arger is better (2m)…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4797360" y="4925880"/>
            <a:ext cx="3311640" cy="1657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his results have been checked on sensitivity to </a:t>
            </a: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ahoma"/>
              </a:rPr>
              <a:t>C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8640" y="3765600"/>
            <a:ext cx="16380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1600" y="415908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11360" y="494496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530712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008760" y="3435480"/>
            <a:ext cx="214200" cy="355320"/>
            <a:chOff x="6008760" y="3435480"/>
            <a:chExt cx="214200" cy="355320"/>
          </a:xfrm>
        </p:grpSpPr>
        <p:sp>
          <p:nvSpPr>
            <p:cNvPr id="282" name=""/>
            <p:cNvSpPr/>
            <p:nvPr/>
          </p:nvSpPr>
          <p:spPr>
            <a:xfrm>
              <a:off x="6008760" y="3435480"/>
              <a:ext cx="1634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59520" y="3790800"/>
              <a:ext cx="1634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33320" y="985680"/>
            <a:ext cx="5276880" cy="5469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225600" y="4348080"/>
            <a:ext cx="6191280" cy="730800"/>
            <a:chOff x="3225600" y="4348080"/>
            <a:chExt cx="6191280" cy="730800"/>
          </a:xfrm>
        </p:grpSpPr>
        <p:sp>
          <p:nvSpPr>
            <p:cNvPr id="287" name=""/>
            <p:cNvSpPr/>
            <p:nvPr/>
          </p:nvSpPr>
          <p:spPr>
            <a:xfrm>
              <a:off x="3747960" y="4348080"/>
              <a:ext cx="54489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3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100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225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43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465000" y="2660760"/>
            <a:ext cx="5945760" cy="762120"/>
            <a:chOff x="3465000" y="2660760"/>
            <a:chExt cx="5945760" cy="762120"/>
          </a:xfrm>
        </p:grpSpPr>
        <p:sp>
          <p:nvSpPr>
            <p:cNvPr id="291" name=""/>
            <p:cNvSpPr/>
            <p:nvPr/>
          </p:nvSpPr>
          <p:spPr>
            <a:xfrm>
              <a:off x="3747960" y="2660760"/>
              <a:ext cx="54489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4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100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3465000" y="284112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08720" y="302400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747960" y="3562200"/>
            <a:ext cx="544896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&lt;E</a:t>
            </a:r>
            <a:r>
              <a:rPr b="1" lang="fr-FR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&gt; ~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245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MeV, 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7.5 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13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/100m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/y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05480" y="3873600"/>
            <a:ext cx="39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2.2GeV SPL optimu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982960" y="3772080"/>
            <a:ext cx="1241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48560" y="223344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3000" y="169848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66720" y="4348080"/>
            <a:ext cx="75661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320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32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2130120" y="1033560"/>
            <a:ext cx="58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opti. Flux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44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4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8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360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361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3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381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88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 possible schem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3572640" y="5519880"/>
            <a:ext cx="5608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+ BetaBeam: see M. Mezzet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+ ATM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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see Th. Schwetz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19160" y="5560920"/>
            <a:ext cx="4952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achin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. Garoby &amp; M. Lindro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12440" y="930240"/>
            <a:ext cx="8274240" cy="4291200"/>
            <a:chOff x="712440" y="930240"/>
            <a:chExt cx="8274240" cy="4291200"/>
          </a:xfrm>
        </p:grpSpPr>
        <p:grpSp>
          <p:nvGrpSpPr>
            <p:cNvPr id="90" name=""/>
            <p:cNvGrpSpPr/>
            <p:nvPr/>
          </p:nvGrpSpPr>
          <p:grpSpPr>
            <a:xfrm>
              <a:off x="712440" y="930240"/>
              <a:ext cx="8274240" cy="4291200"/>
              <a:chOff x="712440" y="930240"/>
              <a:chExt cx="8274240" cy="4291200"/>
            </a:xfrm>
          </p:grpSpPr>
          <p:sp>
            <p:nvSpPr>
              <p:cNvPr id="91" name=""/>
              <p:cNvSpPr/>
              <p:nvPr/>
            </p:nvSpPr>
            <p:spPr>
              <a:xfrm>
                <a:off x="774720" y="971640"/>
                <a:ext cx="8146800" cy="421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86040" y="930240"/>
                <a:ext cx="5300640" cy="429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" name=""/>
              <p:cNvGrpSpPr/>
              <p:nvPr/>
            </p:nvGrpSpPr>
            <p:grpSpPr>
              <a:xfrm>
                <a:off x="820800" y="2247840"/>
                <a:ext cx="4771800" cy="2692080"/>
                <a:chOff x="820800" y="2247840"/>
                <a:chExt cx="4771800" cy="26920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800" y="2247840"/>
                  <a:ext cx="4771800" cy="269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4449600" y="2466720"/>
                  <a:ext cx="86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mic Sans MS"/>
                      <a:ea typeface="Osaka"/>
                    </a:rPr>
                    <a:t>TRE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4862880" y="1326960"/>
                <a:ext cx="3234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CERN SPL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2440" y="1625760"/>
                <a:ext cx="349812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LSM-Fréjus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3717720" y="1989000"/>
              <a:ext cx="338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ar detector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544720" y="2577960"/>
              <a:ext cx="2624040" cy="1258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067000">
              <a:off x="5617440" y="3332880"/>
              <a:ext cx="26982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15000" y="5041800"/>
            <a:ext cx="322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elated talk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2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03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08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6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2200" y="1304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er proton energy &amp; SB Horn specif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new baseline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.5GeV/2m/40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sensitivit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ensitivity to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= 0.7°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(5yrs +): gai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+25% wrt old resul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down to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.4°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with the 10yrs mixed scenario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dependently of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mprov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2K-I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by a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actor 10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at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 (5yrs +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an discover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P viol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an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lve ambigu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lone and result is improved thanks t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Th. Schwetz ‘s talk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omplementary t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o cross check t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ackgroun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d improve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sensitivity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M. Mezzetto’s talk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488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497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499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08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17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44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561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566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569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572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106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87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utrino Flux 100km awa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80960" y="1363680"/>
            <a:ext cx="7645680" cy="5092200"/>
            <a:chOff x="480960" y="1363680"/>
            <a:chExt cx="7645680" cy="5092200"/>
          </a:xfrm>
        </p:grpSpPr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528840" y="1363680"/>
              <a:ext cx="7597800" cy="5003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98" name=""/>
            <p:cNvSpPr/>
            <p:nvPr/>
          </p:nvSpPr>
          <p:spPr>
            <a:xfrm>
              <a:off x="3176280" y="364356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48360" y="365580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-315000" y="37958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evts/100m</a:t>
              </a:r>
              <a:r>
                <a:rPr b="0" lang="fr-FR" sz="2400" spc="-1" strike="noStrike" baseline="30000">
                  <a:solidFill>
                    <a:srgbClr val="000099"/>
                  </a:solidFill>
                  <a:latin typeface="Tahoma"/>
                </a:rPr>
                <a:t>2</a:t>
              </a: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/y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70280" y="6177960"/>
              <a:ext cx="457200" cy="1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16800" y="6177960"/>
              <a:ext cx="4953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5200" y="608508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86160" y="606060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137360" y="1155600"/>
            <a:ext cx="2006640" cy="1219320"/>
            <a:chOff x="7137360" y="1155600"/>
            <a:chExt cx="2006640" cy="1219320"/>
          </a:xfrm>
        </p:grpSpPr>
        <p:sp>
          <p:nvSpPr>
            <p:cNvPr id="606" name=""/>
            <p:cNvSpPr/>
            <p:nvPr/>
          </p:nvSpPr>
          <p:spPr>
            <a:xfrm>
              <a:off x="7137360" y="1155600"/>
              <a:ext cx="1930680" cy="121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94560" y="1206360"/>
              <a:ext cx="15494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 and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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39240" y="1396800"/>
              <a:ext cx="3553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39240" y="1752480"/>
              <a:ext cx="355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39240" y="2120760"/>
              <a:ext cx="35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156080" y="69840"/>
            <a:ext cx="1879920" cy="1092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=3.5G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~3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 = 40m,R=2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80240" y="1042920"/>
            <a:ext cx="1755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1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ew optimization questioned @ MMW04*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2880" y="1333080"/>
            <a:ext cx="48913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Particle produc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Horn design optimisa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Decay tunnel parameter optimisa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Flux computation at Fréju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</a:t>
            </a: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66ff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3366ff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3366ff"/>
                </a:solidFill>
                <a:latin typeface="Comic Sans MS"/>
              </a:rPr>
              <a:t> sensitivity</a:t>
            </a: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839200" y="610236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LAL – 04-102  submitted to EPJC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52760" y="1023840"/>
            <a:ext cx="2055960" cy="1067040"/>
            <a:chOff x="5252760" y="1023840"/>
            <a:chExt cx="2055960" cy="1067040"/>
          </a:xfrm>
        </p:grpSpPr>
        <p:sp>
          <p:nvSpPr>
            <p:cNvPr id="120" name=""/>
            <p:cNvSpPr/>
            <p:nvPr/>
          </p:nvSpPr>
          <p:spPr>
            <a:xfrm>
              <a:off x="5252760" y="1023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27280" y="1633680"/>
              <a:ext cx="4572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7120" y="1481040"/>
              <a:ext cx="228600" cy="38124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9400" y="1481040"/>
              <a:ext cx="685800" cy="38124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98880" y="1481040"/>
              <a:ext cx="228600" cy="38124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03800" y="1709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003800" y="1328400"/>
              <a:ext cx="228600" cy="152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3800" y="1938240"/>
              <a:ext cx="228600" cy="1526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402160" y="2135160"/>
            <a:ext cx="2006640" cy="990720"/>
            <a:chOff x="5402160" y="2135160"/>
            <a:chExt cx="2006640" cy="990720"/>
          </a:xfrm>
        </p:grpSpPr>
        <p:sp>
          <p:nvSpPr>
            <p:cNvPr id="129" name=""/>
            <p:cNvSpPr/>
            <p:nvPr/>
          </p:nvSpPr>
          <p:spPr>
            <a:xfrm>
              <a:off x="5402160" y="259236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2160" y="274500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012000" y="2287800"/>
              <a:ext cx="99036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2000" y="2745000"/>
              <a:ext cx="99036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402160" y="221148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02160" y="274500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2160" y="221148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2360" y="2211480"/>
              <a:ext cx="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02160" y="312588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2360" y="3049560"/>
              <a:ext cx="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2160" y="266868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0760" y="2427480"/>
              <a:ext cx="1447920" cy="241200"/>
            </a:xfrm>
            <a:custGeom>
              <a:avLst/>
              <a:gdLst/>
              <a:ahLst/>
              <a:rect l="l" t="t" r="r" b="b"/>
              <a:pathLst>
                <a:path w="912" h="152">
                  <a:moveTo>
                    <a:pt x="0" y="152"/>
                  </a:moveTo>
                  <a:cubicBezTo>
                    <a:pt x="24" y="116"/>
                    <a:pt x="48" y="80"/>
                    <a:pt x="96" y="56"/>
                  </a:cubicBezTo>
                  <a:cubicBezTo>
                    <a:pt x="144" y="32"/>
                    <a:pt x="216" y="16"/>
                    <a:pt x="288" y="8"/>
                  </a:cubicBezTo>
                  <a:cubicBezTo>
                    <a:pt x="360" y="0"/>
                    <a:pt x="424" y="8"/>
                    <a:pt x="528" y="8"/>
                  </a:cubicBezTo>
                  <a:cubicBezTo>
                    <a:pt x="632" y="8"/>
                    <a:pt x="772" y="8"/>
                    <a:pt x="912" y="8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13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692680" y="3303720"/>
            <a:ext cx="2184120" cy="898560"/>
            <a:chOff x="5692680" y="3303720"/>
            <a:chExt cx="2184120" cy="898560"/>
          </a:xfrm>
        </p:grpSpPr>
        <p:sp>
          <p:nvSpPr>
            <p:cNvPr id="143" name=""/>
            <p:cNvSpPr/>
            <p:nvPr/>
          </p:nvSpPr>
          <p:spPr>
            <a:xfrm>
              <a:off x="6562440" y="3592440"/>
              <a:ext cx="685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33840" y="3592440"/>
              <a:ext cx="456840" cy="609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9640" y="3592440"/>
              <a:ext cx="456840" cy="609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62440" y="4202280"/>
              <a:ext cx="685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92680" y="3359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89520" y="3917880"/>
              <a:ext cx="456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4400" y="33037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4560" y="3917880"/>
              <a:ext cx="456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07160" y="4435200"/>
            <a:ext cx="1295280" cy="533520"/>
            <a:chOff x="5807160" y="4435200"/>
            <a:chExt cx="1295280" cy="533520"/>
          </a:xfrm>
        </p:grpSpPr>
        <p:sp>
          <p:nvSpPr>
            <p:cNvPr id="152" name=""/>
            <p:cNvSpPr/>
            <p:nvPr/>
          </p:nvSpPr>
          <p:spPr>
            <a:xfrm flipV="1">
              <a:off x="5807160" y="4435200"/>
              <a:ext cx="0" cy="533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7160" y="496872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7160" y="4489920"/>
              <a:ext cx="971280" cy="47088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0" y="424"/>
                  </a:moveTo>
                  <a:cubicBezTo>
                    <a:pt x="36" y="384"/>
                    <a:pt x="72" y="344"/>
                    <a:pt x="96" y="280"/>
                  </a:cubicBezTo>
                  <a:cubicBezTo>
                    <a:pt x="120" y="216"/>
                    <a:pt x="128" y="80"/>
                    <a:pt x="144" y="40"/>
                  </a:cubicBezTo>
                  <a:cubicBezTo>
                    <a:pt x="160" y="0"/>
                    <a:pt x="176" y="24"/>
                    <a:pt x="192" y="40"/>
                  </a:cubicBezTo>
                  <a:cubicBezTo>
                    <a:pt x="208" y="56"/>
                    <a:pt x="224" y="96"/>
                    <a:pt x="240" y="136"/>
                  </a:cubicBezTo>
                  <a:cubicBezTo>
                    <a:pt x="256" y="176"/>
                    <a:pt x="256" y="240"/>
                    <a:pt x="288" y="280"/>
                  </a:cubicBezTo>
                  <a:cubicBezTo>
                    <a:pt x="320" y="320"/>
                    <a:pt x="360" y="352"/>
                    <a:pt x="432" y="376"/>
                  </a:cubicBezTo>
                  <a:cubicBezTo>
                    <a:pt x="504" y="400"/>
                    <a:pt x="612" y="412"/>
                    <a:pt x="720" y="424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784840" y="5272200"/>
            <a:ext cx="838080" cy="838080"/>
            <a:chOff x="5784840" y="5272200"/>
            <a:chExt cx="838080" cy="838080"/>
          </a:xfrm>
        </p:grpSpPr>
        <p:sp>
          <p:nvSpPr>
            <p:cNvPr id="156" name=""/>
            <p:cNvSpPr/>
            <p:nvPr/>
          </p:nvSpPr>
          <p:spPr>
            <a:xfrm>
              <a:off x="5784840" y="5272200"/>
              <a:ext cx="838080" cy="838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57080" y="5272200"/>
              <a:ext cx="465480" cy="838080"/>
            </a:xfrm>
            <a:custGeom>
              <a:avLst/>
              <a:gdLst/>
              <a:ahLst/>
              <a:rect l="l" t="t" r="r" b="b"/>
              <a:pathLst>
                <a:path w="400" h="672">
                  <a:moveTo>
                    <a:pt x="64" y="0"/>
                  </a:moveTo>
                  <a:cubicBezTo>
                    <a:pt x="88" y="16"/>
                    <a:pt x="112" y="32"/>
                    <a:pt x="112" y="48"/>
                  </a:cubicBezTo>
                  <a:cubicBezTo>
                    <a:pt x="112" y="64"/>
                    <a:pt x="64" y="72"/>
                    <a:pt x="64" y="96"/>
                  </a:cubicBezTo>
                  <a:cubicBezTo>
                    <a:pt x="64" y="120"/>
                    <a:pt x="112" y="168"/>
                    <a:pt x="112" y="192"/>
                  </a:cubicBezTo>
                  <a:cubicBezTo>
                    <a:pt x="112" y="216"/>
                    <a:pt x="56" y="224"/>
                    <a:pt x="64" y="240"/>
                  </a:cubicBezTo>
                  <a:cubicBezTo>
                    <a:pt x="72" y="256"/>
                    <a:pt x="168" y="264"/>
                    <a:pt x="160" y="288"/>
                  </a:cubicBezTo>
                  <a:cubicBezTo>
                    <a:pt x="152" y="312"/>
                    <a:pt x="32" y="352"/>
                    <a:pt x="16" y="384"/>
                  </a:cubicBezTo>
                  <a:cubicBezTo>
                    <a:pt x="0" y="416"/>
                    <a:pt x="0" y="432"/>
                    <a:pt x="64" y="480"/>
                  </a:cubicBezTo>
                  <a:cubicBezTo>
                    <a:pt x="128" y="528"/>
                    <a:pt x="264" y="600"/>
                    <a:pt x="400" y="672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5268960"/>
            <a:ext cx="841320" cy="838080"/>
            <a:chOff x="6934320" y="5268960"/>
            <a:chExt cx="841320" cy="838080"/>
          </a:xfrm>
        </p:grpSpPr>
        <p:sp>
          <p:nvSpPr>
            <p:cNvPr id="159" name=""/>
            <p:cNvSpPr/>
            <p:nvPr/>
          </p:nvSpPr>
          <p:spPr>
            <a:xfrm>
              <a:off x="6937560" y="5268960"/>
              <a:ext cx="838080" cy="838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4320" y="5506920"/>
              <a:ext cx="833400" cy="341280"/>
            </a:xfrm>
            <a:custGeom>
              <a:avLst/>
              <a:gdLst/>
              <a:ahLst/>
              <a:rect l="l" t="t" r="r" b="b"/>
              <a:pathLst>
                <a:path w="525" h="215">
                  <a:moveTo>
                    <a:pt x="0" y="104"/>
                  </a:moveTo>
                  <a:cubicBezTo>
                    <a:pt x="43" y="159"/>
                    <a:pt x="86" y="215"/>
                    <a:pt x="147" y="200"/>
                  </a:cubicBezTo>
                  <a:cubicBezTo>
                    <a:pt x="208" y="185"/>
                    <a:pt x="303" y="28"/>
                    <a:pt x="366" y="14"/>
                  </a:cubicBezTo>
                  <a:cubicBezTo>
                    <a:pt x="429" y="0"/>
                    <a:pt x="477" y="58"/>
                    <a:pt x="525" y="11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1760" y="6249960"/>
            <a:ext cx="57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*: Multi MegaWatt Workshop at CERN 26-28 May 0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ticle produc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8200" y="1523520"/>
            <a:ext cx="803088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ton beam 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encil lik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=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2.2GeV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fr-FR" sz="2400" spc="-1" strike="noStrike">
                <a:solidFill>
                  <a:srgbClr val="008000"/>
                </a:solidFill>
                <a:latin typeface="Comic Sans MS"/>
              </a:rPr>
              <a:t>3.5GeV</a:t>
            </a:r>
            <a:r>
              <a:rPr b="0" lang="fr-FR" sz="2400" spc="-1" strike="noStrike">
                <a:solidFill>
                  <a:srgbClr val="008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Target :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30cm long cylinder,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15mm in Liq. Hg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Normalized to a power of 4MW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1.14 10</a:t>
            </a:r>
            <a:r>
              <a:rPr b="0" lang="en-GB" sz="2800" spc="-1" strike="noStrike" baseline="30000">
                <a:solidFill>
                  <a:srgbClr val="000099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 pot/yr @ 2.2GeV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0.71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ot/yr @ 3.5GeV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Beam vs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act Opt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4360" y="1362240"/>
            <a:ext cx="3735360" cy="4516920"/>
            <a:chOff x="684360" y="1362240"/>
            <a:chExt cx="3735360" cy="4516920"/>
          </a:xfrm>
        </p:grpSpPr>
        <p:grpSp>
          <p:nvGrpSpPr>
            <p:cNvPr id="166" name=""/>
            <p:cNvGrpSpPr/>
            <p:nvPr/>
          </p:nvGrpSpPr>
          <p:grpSpPr>
            <a:xfrm>
              <a:off x="684360" y="1800360"/>
              <a:ext cx="3735360" cy="3166560"/>
              <a:chOff x="684360" y="1800360"/>
              <a:chExt cx="3735360" cy="316656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74760" y="215856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4360" y="3527280"/>
                <a:ext cx="34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32400" y="1800360"/>
                <a:ext cx="737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4720" y="331164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1992240" y="2279520"/>
                <a:ext cx="396720" cy="2460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67520" y="2879640"/>
                <a:ext cx="118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20 mrad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99760" y="3598920"/>
                <a:ext cx="6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2 m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023840" y="1362240"/>
              <a:ext cx="22136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Comic Sans MS"/>
                </a:rPr>
                <a:t>Super Beam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88920" y="5175360"/>
              <a:ext cx="241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Spot size @ 130k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Decay tunnel size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80080" y="1360440"/>
            <a:ext cx="3814920" cy="4516920"/>
            <a:chOff x="4780080" y="1360440"/>
            <a:chExt cx="3814920" cy="4516920"/>
          </a:xfrm>
        </p:grpSpPr>
        <p:grpSp>
          <p:nvGrpSpPr>
            <p:cNvPr id="177" name=""/>
            <p:cNvGrpSpPr/>
            <p:nvPr/>
          </p:nvGrpSpPr>
          <p:grpSpPr>
            <a:xfrm>
              <a:off x="4859280" y="1800360"/>
              <a:ext cx="3735720" cy="3166920"/>
              <a:chOff x="4859280" y="1800360"/>
              <a:chExt cx="3735720" cy="316692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6350040" y="2159280"/>
                <a:ext cx="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59280" y="3527640"/>
                <a:ext cx="345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89680" y="2519640"/>
                <a:ext cx="718920" cy="208728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07320" y="1800360"/>
                <a:ext cx="737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280000" y="331164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98280" y="2266920"/>
                <a:ext cx="84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½ rad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68720" y="3527640"/>
                <a:ext cx="83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30cm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845680" y="1360440"/>
              <a:ext cx="1047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</a:t>
              </a:r>
              <a:r>
                <a:rPr b="0" lang="en-GB" sz="2800" spc="-1" strike="noStrike">
                  <a:solidFill>
                    <a:srgbClr val="008000"/>
                  </a:solidFill>
                  <a:latin typeface="Comic Sans MS"/>
                </a:rPr>
                <a:t>Fact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80080" y="5173560"/>
              <a:ext cx="315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Decay channel solenoid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perture and B strength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98800" y="6302520"/>
            <a:ext cx="34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Thanks S. Gilardoni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ion produc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16520" y="0"/>
            <a:ext cx="3217320" cy="1366920"/>
            <a:chOff x="4016520" y="0"/>
            <a:chExt cx="3217320" cy="1366920"/>
          </a:xfrm>
        </p:grpSpPr>
        <p:sp>
          <p:nvSpPr>
            <p:cNvPr id="190" name=""/>
            <p:cNvSpPr/>
            <p:nvPr/>
          </p:nvSpPr>
          <p:spPr>
            <a:xfrm>
              <a:off x="4713120" y="93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5702760" y="378360"/>
              <a:ext cx="541080" cy="1079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867280" y="432000"/>
              <a:ext cx="502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079640"/>
              <a:ext cx="502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57840" y="93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6520" y="50328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 (2.2GeV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47240" y="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GB" sz="40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8080" y="71928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Hg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762560" y="1373040"/>
            <a:ext cx="7821360" cy="4325760"/>
            <a:chOff x="1762560" y="1373040"/>
            <a:chExt cx="7821360" cy="4325760"/>
          </a:xfrm>
        </p:grpSpPr>
        <p:grpSp>
          <p:nvGrpSpPr>
            <p:cNvPr id="199" name=""/>
            <p:cNvGrpSpPr/>
            <p:nvPr/>
          </p:nvGrpSpPr>
          <p:grpSpPr>
            <a:xfrm>
              <a:off x="1762560" y="1373040"/>
              <a:ext cx="7821360" cy="4325760"/>
              <a:chOff x="1762560" y="1373040"/>
              <a:chExt cx="7821360" cy="432576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7640" y="1720440"/>
                <a:ext cx="5867280" cy="397836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2854440" y="3625560"/>
                <a:ext cx="1512720" cy="1664640"/>
                <a:chOff x="2854440" y="3625560"/>
                <a:chExt cx="1512720" cy="166464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2854440" y="4296960"/>
                  <a:ext cx="0" cy="99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4367160" y="4296960"/>
                  <a:ext cx="0" cy="99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203640" y="3625560"/>
                  <a:ext cx="802440" cy="3988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fr-FR" sz="2000" spc="-1" strike="noStrike">
                      <a:solidFill>
                        <a:srgbClr val="000099"/>
                      </a:solidFill>
                      <a:latin typeface="Tahoma"/>
                    </a:rPr>
                    <a:t>Fact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854440" y="4078080"/>
                  <a:ext cx="407520" cy="21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3959280" y="4078080"/>
                  <a:ext cx="407520" cy="21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496040" y="3624120"/>
                <a:ext cx="487080" cy="1666080"/>
                <a:chOff x="4496040" y="3624120"/>
                <a:chExt cx="487080" cy="166608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4500720" y="3995280"/>
                  <a:ext cx="466920" cy="1294920"/>
                  <a:chOff x="4500720" y="3995280"/>
                  <a:chExt cx="466920" cy="129492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V="1">
                    <a:off x="4500720" y="399528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4967640" y="399528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4496040" y="3624120"/>
                  <a:ext cx="487080" cy="3988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99"/>
                      </a:solidFill>
                      <a:latin typeface="Tahoma"/>
                    </a:rPr>
                    <a:t>SB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1762560" y="1373040"/>
                <a:ext cx="26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99"/>
                    </a:solidFill>
                    <a:latin typeface="Tahoma"/>
                  </a:rPr>
                  <a:t>at the exit of the target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27360" y="3282840"/>
                <a:ext cx="14400" cy="318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97320" y="2820600"/>
                <a:ext cx="615744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3399"/>
                    </a:solidFill>
                    <a:latin typeface="Comic Sans MS"/>
                  </a:rPr>
                  <a:t>Horn optimisation by S. Gilardoni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5045040" y="3876480"/>
                <a:ext cx="563760" cy="15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37120" y="3562200"/>
                <a:ext cx="45468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3399"/>
                    </a:solidFill>
                    <a:latin typeface="Comic Sans MS"/>
                  </a:rPr>
                  <a:t>This new optimisation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259680" y="174600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2 10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 pot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259280" y="5856120"/>
            <a:ext cx="7113240" cy="5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ule of thumb: E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/3~ E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MeV)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2800" spc="-1" strike="noStrike">
                <a:solidFill>
                  <a:srgbClr val="003399"/>
                </a:solidFill>
                <a:latin typeface="Math3"/>
                <a:ea typeface="Math3"/>
              </a:rPr>
              <a:t>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.L(km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28680" y="4572000"/>
            <a:ext cx="5691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at 2.2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26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8 10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0400" y="9144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see BENE meeting 11/09/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49800" y="496584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at 3.5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0.29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2.8 10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34040" y="4954680"/>
            <a:ext cx="2824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ahoma"/>
              </a:rPr>
              <a:t>at 4.5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0.32 </a:t>
            </a:r>
            <a:r>
              <a:rPr b="0" lang="fr-FR" sz="24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5.2 10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30640" y="5076720"/>
            <a:ext cx="8892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99040" y="5067360"/>
            <a:ext cx="8892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1640" y="1263600"/>
            <a:ext cx="8573400" cy="3346560"/>
            <a:chOff x="251640" y="1263600"/>
            <a:chExt cx="8573400" cy="3346560"/>
          </a:xfrm>
        </p:grpSpPr>
        <p:pic>
          <p:nvPicPr>
            <p:cNvPr id="227" name="" descr=""/>
            <p:cNvPicPr/>
            <p:nvPr/>
          </p:nvPicPr>
          <p:blipFill>
            <a:blip r:embed="rId1">
              <a:lum contrast="36000"/>
            </a:blip>
            <a:stretch/>
          </p:blipFill>
          <p:spPr>
            <a:xfrm>
              <a:off x="420840" y="1263600"/>
              <a:ext cx="8404200" cy="33228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228" name=""/>
            <p:cNvSpPr/>
            <p:nvPr/>
          </p:nvSpPr>
          <p:spPr>
            <a:xfrm>
              <a:off x="7719840" y="4398840"/>
              <a:ext cx="63828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78000" y="2655720"/>
              <a:ext cx="263520" cy="0"/>
            </a:xfrm>
            <a:prstGeom prst="line">
              <a:avLst/>
            </a:prstGeom>
            <a:ln cap="rnd" w="19080">
              <a:solidFill>
                <a:srgbClr val="00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7160" y="1728720"/>
              <a:ext cx="801720" cy="10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1880" y="1728720"/>
              <a:ext cx="725400" cy="90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4160" y="4359240"/>
              <a:ext cx="7016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4160" y="4259520"/>
              <a:ext cx="81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E</a:t>
              </a:r>
              <a:r>
                <a:rPr b="1" lang="en-GB" sz="1400" spc="-1" strike="noStrike" baseline="-25000">
                  <a:solidFill>
                    <a:srgbClr val="000099"/>
                  </a:solidFill>
                  <a:latin typeface="Tahoma"/>
                </a:rPr>
                <a:t>p</a:t>
              </a: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(GeV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80240" y="4273920"/>
              <a:ext cx="81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E</a:t>
              </a:r>
              <a:r>
                <a:rPr b="1" lang="en-GB" sz="1400" spc="-1" strike="noStrike" baseline="-25000">
                  <a:solidFill>
                    <a:srgbClr val="000099"/>
                  </a:solidFill>
                  <a:latin typeface="Tahoma"/>
                </a:rPr>
                <a:t>p</a:t>
              </a: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(GeV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5840" y="182772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ahoma"/>
                </a:rPr>
                <a:t>+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59120" y="2437560"/>
              <a:ext cx="36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84720" y="18928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+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42920" y="367416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23760" y="287100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15920" y="3639960"/>
              <a:ext cx="1917720" cy="474840"/>
            </a:xfrm>
            <a:custGeom>
              <a:avLst/>
              <a:gdLst/>
              <a:ahLst/>
              <a:rect l="l" t="t" r="r" b="b"/>
              <a:pathLst>
                <a:path w="1208" h="299">
                  <a:moveTo>
                    <a:pt x="0" y="299"/>
                  </a:moveTo>
                  <a:cubicBezTo>
                    <a:pt x="57" y="290"/>
                    <a:pt x="116" y="284"/>
                    <a:pt x="200" y="263"/>
                  </a:cubicBezTo>
                  <a:cubicBezTo>
                    <a:pt x="284" y="242"/>
                    <a:pt x="437" y="200"/>
                    <a:pt x="508" y="175"/>
                  </a:cubicBezTo>
                  <a:cubicBezTo>
                    <a:pt x="579" y="150"/>
                    <a:pt x="591" y="128"/>
                    <a:pt x="628" y="111"/>
                  </a:cubicBezTo>
                  <a:cubicBezTo>
                    <a:pt x="665" y="94"/>
                    <a:pt x="681" y="89"/>
                    <a:pt x="728" y="75"/>
                  </a:cubicBezTo>
                  <a:cubicBezTo>
                    <a:pt x="775" y="61"/>
                    <a:pt x="854" y="0"/>
                    <a:pt x="912" y="27"/>
                  </a:cubicBezTo>
                  <a:cubicBezTo>
                    <a:pt x="970" y="54"/>
                    <a:pt x="1027" y="199"/>
                    <a:pt x="1076" y="235"/>
                  </a:cubicBezTo>
                  <a:cubicBezTo>
                    <a:pt x="1125" y="271"/>
                    <a:pt x="1184" y="242"/>
                    <a:pt x="1208" y="24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01960" y="1731960"/>
              <a:ext cx="1219320" cy="2306520"/>
            </a:xfrm>
            <a:custGeom>
              <a:avLst/>
              <a:gdLst/>
              <a:ahLst/>
              <a:rect l="l" t="t" r="r" b="b"/>
              <a:pathLst>
                <a:path w="768" h="1453">
                  <a:moveTo>
                    <a:pt x="0" y="1453"/>
                  </a:moveTo>
                  <a:cubicBezTo>
                    <a:pt x="66" y="1374"/>
                    <a:pt x="133" y="1295"/>
                    <a:pt x="192" y="1181"/>
                  </a:cubicBezTo>
                  <a:cubicBezTo>
                    <a:pt x="251" y="1067"/>
                    <a:pt x="288" y="945"/>
                    <a:pt x="356" y="769"/>
                  </a:cubicBezTo>
                  <a:cubicBezTo>
                    <a:pt x="424" y="593"/>
                    <a:pt x="531" y="250"/>
                    <a:pt x="600" y="125"/>
                  </a:cubicBezTo>
                  <a:cubicBezTo>
                    <a:pt x="669" y="0"/>
                    <a:pt x="718" y="8"/>
                    <a:pt x="768" y="1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22400" y="2317680"/>
              <a:ext cx="3098880" cy="1824120"/>
            </a:xfrm>
            <a:custGeom>
              <a:avLst/>
              <a:gdLst/>
              <a:ahLst/>
              <a:rect l="l" t="t" r="r" b="b"/>
              <a:pathLst>
                <a:path w="1952" h="1149">
                  <a:moveTo>
                    <a:pt x="0" y="1140"/>
                  </a:moveTo>
                  <a:cubicBezTo>
                    <a:pt x="161" y="1128"/>
                    <a:pt x="323" y="1116"/>
                    <a:pt x="436" y="1092"/>
                  </a:cubicBezTo>
                  <a:cubicBezTo>
                    <a:pt x="549" y="1068"/>
                    <a:pt x="601" y="1026"/>
                    <a:pt x="676" y="996"/>
                  </a:cubicBezTo>
                  <a:cubicBezTo>
                    <a:pt x="751" y="966"/>
                    <a:pt x="821" y="896"/>
                    <a:pt x="888" y="912"/>
                  </a:cubicBezTo>
                  <a:cubicBezTo>
                    <a:pt x="955" y="928"/>
                    <a:pt x="1021" y="1065"/>
                    <a:pt x="1080" y="1092"/>
                  </a:cubicBezTo>
                  <a:cubicBezTo>
                    <a:pt x="1139" y="1119"/>
                    <a:pt x="1165" y="1149"/>
                    <a:pt x="1240" y="1072"/>
                  </a:cubicBezTo>
                  <a:cubicBezTo>
                    <a:pt x="1315" y="995"/>
                    <a:pt x="1458" y="756"/>
                    <a:pt x="1528" y="632"/>
                  </a:cubicBezTo>
                  <a:cubicBezTo>
                    <a:pt x="1598" y="508"/>
                    <a:pt x="1606" y="403"/>
                    <a:pt x="1660" y="328"/>
                  </a:cubicBezTo>
                  <a:cubicBezTo>
                    <a:pt x="1714" y="253"/>
                    <a:pt x="1813" y="233"/>
                    <a:pt x="1852" y="184"/>
                  </a:cubicBezTo>
                  <a:cubicBezTo>
                    <a:pt x="1891" y="135"/>
                    <a:pt x="1875" y="63"/>
                    <a:pt x="1892" y="32"/>
                  </a:cubicBezTo>
                  <a:cubicBezTo>
                    <a:pt x="1909" y="1"/>
                    <a:pt x="1930" y="0"/>
                    <a:pt x="1952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15920" y="4044960"/>
              <a:ext cx="3117960" cy="201600"/>
            </a:xfrm>
            <a:custGeom>
              <a:avLst/>
              <a:gdLst/>
              <a:ahLst/>
              <a:rect l="l" t="t" r="r" b="b"/>
              <a:pathLst>
                <a:path w="1964" h="127">
                  <a:moveTo>
                    <a:pt x="0" y="112"/>
                  </a:moveTo>
                  <a:cubicBezTo>
                    <a:pt x="462" y="119"/>
                    <a:pt x="925" y="127"/>
                    <a:pt x="1220" y="112"/>
                  </a:cubicBezTo>
                  <a:cubicBezTo>
                    <a:pt x="1515" y="97"/>
                    <a:pt x="1648" y="43"/>
                    <a:pt x="1772" y="24"/>
                  </a:cubicBezTo>
                  <a:cubicBezTo>
                    <a:pt x="1896" y="5"/>
                    <a:pt x="1930" y="2"/>
                    <a:pt x="1964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1739880"/>
              <a:ext cx="3124440" cy="1635120"/>
            </a:xfrm>
            <a:custGeom>
              <a:avLst/>
              <a:gdLst/>
              <a:ahLst/>
              <a:rect l="l" t="t" r="r" b="b"/>
              <a:pathLst>
                <a:path w="1968" h="1030">
                  <a:moveTo>
                    <a:pt x="0" y="1016"/>
                  </a:moveTo>
                  <a:cubicBezTo>
                    <a:pt x="12" y="1023"/>
                    <a:pt x="25" y="1030"/>
                    <a:pt x="36" y="1016"/>
                  </a:cubicBezTo>
                  <a:cubicBezTo>
                    <a:pt x="47" y="1002"/>
                    <a:pt x="26" y="963"/>
                    <a:pt x="64" y="932"/>
                  </a:cubicBezTo>
                  <a:cubicBezTo>
                    <a:pt x="102" y="901"/>
                    <a:pt x="191" y="863"/>
                    <a:pt x="264" y="828"/>
                  </a:cubicBezTo>
                  <a:cubicBezTo>
                    <a:pt x="337" y="793"/>
                    <a:pt x="433" y="754"/>
                    <a:pt x="504" y="720"/>
                  </a:cubicBezTo>
                  <a:cubicBezTo>
                    <a:pt x="575" y="686"/>
                    <a:pt x="621" y="658"/>
                    <a:pt x="688" y="624"/>
                  </a:cubicBezTo>
                  <a:cubicBezTo>
                    <a:pt x="755" y="590"/>
                    <a:pt x="853" y="555"/>
                    <a:pt x="908" y="516"/>
                  </a:cubicBezTo>
                  <a:cubicBezTo>
                    <a:pt x="963" y="477"/>
                    <a:pt x="931" y="439"/>
                    <a:pt x="1016" y="392"/>
                  </a:cubicBezTo>
                  <a:cubicBezTo>
                    <a:pt x="1101" y="345"/>
                    <a:pt x="1319" y="277"/>
                    <a:pt x="1416" y="232"/>
                  </a:cubicBezTo>
                  <a:cubicBezTo>
                    <a:pt x="1513" y="187"/>
                    <a:pt x="1508" y="159"/>
                    <a:pt x="1600" y="120"/>
                  </a:cubicBezTo>
                  <a:cubicBezTo>
                    <a:pt x="1692" y="81"/>
                    <a:pt x="1830" y="40"/>
                    <a:pt x="196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9640" y="2457360"/>
              <a:ext cx="3117960" cy="1130400"/>
            </a:xfrm>
            <a:custGeom>
              <a:avLst/>
              <a:gdLst/>
              <a:ahLst/>
              <a:rect l="l" t="t" r="r" b="b"/>
              <a:pathLst>
                <a:path w="1964" h="712">
                  <a:moveTo>
                    <a:pt x="0" y="708"/>
                  </a:moveTo>
                  <a:cubicBezTo>
                    <a:pt x="12" y="710"/>
                    <a:pt x="24" y="712"/>
                    <a:pt x="40" y="692"/>
                  </a:cubicBezTo>
                  <a:cubicBezTo>
                    <a:pt x="56" y="672"/>
                    <a:pt x="40" y="627"/>
                    <a:pt x="96" y="588"/>
                  </a:cubicBezTo>
                  <a:cubicBezTo>
                    <a:pt x="152" y="549"/>
                    <a:pt x="280" y="505"/>
                    <a:pt x="376" y="456"/>
                  </a:cubicBezTo>
                  <a:cubicBezTo>
                    <a:pt x="472" y="407"/>
                    <a:pt x="592" y="337"/>
                    <a:pt x="672" y="296"/>
                  </a:cubicBezTo>
                  <a:cubicBezTo>
                    <a:pt x="752" y="255"/>
                    <a:pt x="808" y="223"/>
                    <a:pt x="856" y="208"/>
                  </a:cubicBezTo>
                  <a:cubicBezTo>
                    <a:pt x="904" y="193"/>
                    <a:pt x="924" y="197"/>
                    <a:pt x="960" y="208"/>
                  </a:cubicBezTo>
                  <a:cubicBezTo>
                    <a:pt x="996" y="219"/>
                    <a:pt x="1019" y="262"/>
                    <a:pt x="1072" y="272"/>
                  </a:cubicBezTo>
                  <a:cubicBezTo>
                    <a:pt x="1125" y="282"/>
                    <a:pt x="1215" y="279"/>
                    <a:pt x="1280" y="268"/>
                  </a:cubicBezTo>
                  <a:cubicBezTo>
                    <a:pt x="1345" y="257"/>
                    <a:pt x="1398" y="232"/>
                    <a:pt x="1460" y="208"/>
                  </a:cubicBezTo>
                  <a:cubicBezTo>
                    <a:pt x="1522" y="184"/>
                    <a:pt x="1568" y="159"/>
                    <a:pt x="1652" y="124"/>
                  </a:cubicBezTo>
                  <a:cubicBezTo>
                    <a:pt x="1736" y="89"/>
                    <a:pt x="1850" y="44"/>
                    <a:pt x="1964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03680" y="3200400"/>
              <a:ext cx="15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120" y="2684520"/>
              <a:ext cx="358200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Not physical dip !!!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Not Used…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98760" y="3063960"/>
              <a:ext cx="930240" cy="593640"/>
            </a:xfrm>
            <a:custGeom>
              <a:avLst/>
              <a:gdLst/>
              <a:ahLst/>
              <a:rect l="l" t="t" r="r" b="b"/>
              <a:pathLst>
                <a:path w="586" h="374">
                  <a:moveTo>
                    <a:pt x="0" y="374"/>
                  </a:moveTo>
                  <a:cubicBezTo>
                    <a:pt x="32" y="368"/>
                    <a:pt x="122" y="363"/>
                    <a:pt x="192" y="336"/>
                  </a:cubicBezTo>
                  <a:cubicBezTo>
                    <a:pt x="262" y="309"/>
                    <a:pt x="365" y="251"/>
                    <a:pt x="423" y="211"/>
                  </a:cubicBezTo>
                  <a:cubicBezTo>
                    <a:pt x="481" y="171"/>
                    <a:pt x="511" y="131"/>
                    <a:pt x="538" y="96"/>
                  </a:cubicBezTo>
                  <a:cubicBezTo>
                    <a:pt x="565" y="61"/>
                    <a:pt x="576" y="25"/>
                    <a:pt x="58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6000" y="3200400"/>
              <a:ext cx="930240" cy="593640"/>
            </a:xfrm>
            <a:custGeom>
              <a:avLst/>
              <a:gdLst/>
              <a:ahLst/>
              <a:rect l="l" t="t" r="r" b="b"/>
              <a:pathLst>
                <a:path w="586" h="374">
                  <a:moveTo>
                    <a:pt x="0" y="374"/>
                  </a:moveTo>
                  <a:cubicBezTo>
                    <a:pt x="32" y="368"/>
                    <a:pt x="122" y="363"/>
                    <a:pt x="192" y="336"/>
                  </a:cubicBezTo>
                  <a:cubicBezTo>
                    <a:pt x="262" y="309"/>
                    <a:pt x="365" y="251"/>
                    <a:pt x="423" y="211"/>
                  </a:cubicBezTo>
                  <a:cubicBezTo>
                    <a:pt x="481" y="171"/>
                    <a:pt x="511" y="131"/>
                    <a:pt x="538" y="96"/>
                  </a:cubicBezTo>
                  <a:cubicBezTo>
                    <a:pt x="565" y="61"/>
                    <a:pt x="576" y="25"/>
                    <a:pt x="586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83720" y="4216320"/>
              <a:ext cx="172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3.5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640" y="4194000"/>
              <a:ext cx="172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.2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00000">
            <a:off x="2939040" y="2935080"/>
            <a:ext cx="32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For 500 000 po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520" y="641844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Rate x 10</a:t>
            </a:r>
            <a:r>
              <a:rPr b="0" lang="fr-FR" sz="2000" spc="-1" strike="noStrike" baseline="30000">
                <a:solidFill>
                  <a:srgbClr val="003399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7-12T13:15:38Z</dcterms:modified>
  <cp:revision>153</cp:revision>
  <dc:subject/>
  <dc:title>SPL-Fréjus optimisation. </dc:title>
</cp:coreProperties>
</file>